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E182-1CA8-42D9-B1A3-899E911FA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EA02-4253-476F-B973-F6B17EFEA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1F96-CEA7-4AA9-9C9E-6ED93585C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916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3028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840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2916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23028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DC0B-024E-4623-894A-D7AC9DF61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8400" y="2171880"/>
            <a:ext cx="41432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C423-EC83-4F32-AD13-D01A60630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82916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3028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40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182916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323028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299A-04A6-4BCB-905C-FB23557ED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CBF2-7ED3-4567-97AA-AE5EE49B3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C188-B545-4F0A-8E69-0EC04AAC3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2171880"/>
            <a:ext cx="41432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AC62-EE33-422B-A0BC-76B06A7E1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B251-834F-47EF-BF69-8E76D995A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CF71-00A9-4E58-AF48-BBB4D6331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D4CE-ACB0-49B6-9657-38B250482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49000"/>
            <a:ext cx="8153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312920"/>
            <a:ext cx="81532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241200" indent="-239760">
              <a:spcAft>
                <a:spcPts val="1125"/>
              </a:spcAft>
              <a:buClr>
                <a:srgbClr val="d2bb6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461880" indent="-21888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682560" indent="-21888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914400" indent="-23004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914400" indent="-230040">
              <a:spcAft>
                <a:spcPts val="1125"/>
              </a:spcAft>
              <a:buClr>
                <a:srgbClr val="000000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914400" indent="-230040">
              <a:spcAft>
                <a:spcPts val="1125"/>
              </a:spcAft>
              <a:buClr>
                <a:srgbClr val="000000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57920" y="6622560"/>
            <a:ext cx="1377720" cy="111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d2bb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93E3-4C51-4D69-81F8-DE5BBA2B0AF5}" type="slidenum">
              <a:rPr b="0" lang="en-GB" sz="800" spc="-1" strike="noStrike">
                <a:solidFill>
                  <a:srgbClr val="d2bb6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82840" y="6581880"/>
            <a:ext cx="280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bb68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77000"/>
            <a:ext cx="9144000" cy="19044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33605"/>
          <a:stretch/>
        </p:blipFill>
        <p:spPr>
          <a:xfrm>
            <a:off x="8159760" y="185760"/>
            <a:ext cx="863640" cy="573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0" t="67279" r="0" b="0"/>
          <a:stretch/>
        </p:blipFill>
        <p:spPr>
          <a:xfrm>
            <a:off x="247680" y="6154560"/>
            <a:ext cx="1446120" cy="55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6270480"/>
            <a:ext cx="17290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QinetiQ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82840" y="6581880"/>
            <a:ext cx="280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77000"/>
            <a:ext cx="9144000" cy="19044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79800" y="6635880"/>
            <a:ext cx="28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bb68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6459480"/>
            <a:ext cx="2129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2bb68"/>
                </a:solidFill>
                <a:latin typeface="Arial"/>
              </a:rPr>
              <a:t>www.QinetiQ/etp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67279" r="0" b="0"/>
          <a:stretch/>
        </p:blipFill>
        <p:spPr>
          <a:xfrm>
            <a:off x="247680" y="6154560"/>
            <a:ext cx="1446120" cy="559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1440" indent="0"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24300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46368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68436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684360">
              <a:spcBef>
                <a:spcPts val="349"/>
              </a:spcBef>
              <a:buClr>
                <a:srgbClr val="000000"/>
              </a:buClr>
              <a:buFont typeface="TheSans Q5 Plai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684360">
              <a:spcBef>
                <a:spcPts val="349"/>
              </a:spcBef>
              <a:buClr>
                <a:srgbClr val="000000"/>
              </a:buClr>
              <a:buFont typeface="TheSans Q5 Plai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840" y="1552680"/>
            <a:ext cx="624816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light Test Safety Workshop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42760" y="3355920"/>
            <a:ext cx="545796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ger H Beazle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erospace Advi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inetiQ/ETPS U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48:41Z</dcterms:created>
  <dc:creator/>
  <dc:description/>
  <dc:language>en-US</dc:language>
  <cp:lastModifiedBy>thomas.roberts</cp:lastModifiedBy>
  <dcterms:modified xsi:type="dcterms:W3CDTF">2007-05-09T02:36:05Z</dcterms:modified>
  <cp:revision>171</cp:revision>
  <dc:subject/>
  <dc:title>Presentation title</dc:title>
</cp:coreProperties>
</file>