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5E4E-DFAA-42FC-A98A-D86FE4514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91B4-6EF7-4CEA-B75A-51B76FB4A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7DC1-2811-4A00-86F6-FD4EE65F0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C1FC-2ECD-40BB-828E-E3984E25E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ACD6-D659-406E-8431-21813A1A68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D11E-3FC4-414D-8EC7-CEE04F992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A25D-28A4-489A-AD4F-28301C7B9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E2EF-3862-46E6-93E2-EFF132FB3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4920" y="1519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A28B-AD40-468D-B245-DDAE84427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A978-8651-4C0E-BB67-004A143FB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9742-A0FC-44C7-B3BC-11C9E111B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D970-0C34-4162-B885-C5489A379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80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D1CE-B480-4E81-9288-4A0B00E7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077320" y="6180120"/>
            <a:ext cx="685800" cy="677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295280" cy="1041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0880" y="1447920"/>
            <a:ext cx="8458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2093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cognizing CRM Breakdown is Like Trying to Give Yourself CP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9960" y="529740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Dickerson, NASA Dry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Brief Rec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222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downs of Several Mish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on Real-Time CRM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shap-Based Survey to Check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Find Indicators of CRM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Ask Diverse Group of T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 Available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houghts About Using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rt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enge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ncy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: Survey Says, “If You Feel This... Re-Assert CRM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1907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TE, PNF, O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tal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Emotions and Menta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xious/Nervous -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ask saturated -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fused/uncertain -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ssured 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F, AC, Msn 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tal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Emotions and Menta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ushed -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ask Saturated -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ssured -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fused -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873760"/>
            <a:ext cx="5486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: Put these on the back of you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d right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8160" y="518148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Only 46 of 120 surveys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19:27Z</dcterms:created>
  <dc:creator>Mark Dickerson</dc:creator>
  <dc:description/>
  <dc:language>en-US</dc:language>
  <cp:lastModifiedBy>thomas.roberts</cp:lastModifiedBy>
  <dcterms:modified xsi:type="dcterms:W3CDTF">2007-05-15T14:19:27Z</dcterms:modified>
  <cp:revision>36</cp:revision>
  <dc:subject/>
  <dc:title>FTSC Presentation</dc:title>
</cp:coreProperties>
</file>