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49D-849E-4023-9BC8-AA5EF5E4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76668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76A-9E26-4552-AAC3-1C8D9935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7840" y="376668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98F-3AE6-4DFE-AF24-F84327B0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76668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0680" y="376668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6080" y="376668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CE0-6610-4AD3-9E5B-A4421011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53F-1420-498B-BE64-DE18F41E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B68-E5F3-44FD-A7AF-2FF27877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65A-E083-4A72-85B0-004D16D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2C9-5EE9-4C06-A79D-23797ED2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DAD-0855-432E-9467-2CF9439F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0E1-BDA1-4568-9594-F531E40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7840" y="376668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621-D1D1-4A08-B794-51F505CA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76668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C6E-3D91-4EFD-A6A9-C51E9FC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790D-E762-4F43-8B6E-9224923469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2794-5B07-4704-9704-725B78606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989640"/>
            <a:ext cx="4038480" cy="759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038480" y="989640"/>
            <a:ext cx="4915080" cy="74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7772400" y="925560"/>
            <a:ext cx="1219320" cy="1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cc00"/>
                  </a:outerShdw>
                </a:effectLst>
                <a:latin typeface="Arial Black"/>
              </a:rPr>
              <a:t>GLOBAL REACH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99cc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83440" y="0"/>
            <a:ext cx="1060560" cy="8762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rcRect l="0" t="0" r="0" b="30771"/>
          <a:stretch/>
        </p:blipFill>
        <p:spPr>
          <a:xfrm>
            <a:off x="0" y="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5320" y="205704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-5M Elevated Risk Flight Test CRM Lessons Learn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348080" cy="4222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4572000"/>
            <a:ext cx="49528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de Smith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ef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j Matt Schnoor, Test 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sica Wojtanowski, Flight Test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usz Wisniewski, Flight Test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chment 4, 418 FLTS, AFF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007 SETP FLIGHT TEST SAFETY WORKSH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638680"/>
            <a:ext cx="3657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ews expressed in this article are th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author and do not necessarily reflect the official policy or position of the Air Force, the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Defense or the U.S. Gover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TTER TEST SCRI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6934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oard Test Conductor (OTC): Test Card Br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rol Room Test Director (TD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ol Rea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se Rea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ilot Flying (PF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l to pre-div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F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lot Rea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C: Confirm target speeds, aircraft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C: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eared to Maneu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F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ting D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C: Call speeds, slow or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Pilot Not Flying (PNF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Altitude B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SAS OFF if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C: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 Cond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F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cann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n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passing 22,400 ft, Mach to KCAS tran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C: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euver Complete, Rec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in Prog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ean and D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eared to Next C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1828800"/>
            <a:ext cx="3048120" cy="192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NDARDIZED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HECK SPE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LOW-DOW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NOCK-IT-OFF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BOR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7162920" y="4724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6CD-8EBB-4E69-9163-B860774552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ROADM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1685880" cy="2361960"/>
          </a:xfrm>
          <a:prstGeom prst="rect">
            <a:avLst/>
          </a:prstGeom>
          <a:ln w="0">
            <a:noFill/>
          </a:ln>
        </p:spPr>
      </p:pic>
      <p:cxnSp>
        <p:nvCxnSpPr>
          <p:cNvPr id="150" name=""/>
          <p:cNvCxnSpPr>
            <a:stCxn id="149" idx="0"/>
            <a:endCxn id="151" idx="3"/>
          </p:cNvCxnSpPr>
          <p:nvPr/>
        </p:nvCxnSpPr>
        <p:spPr>
          <a:xfrm flipV="1" rot="16200000">
            <a:off x="5670000" y="1321560"/>
            <a:ext cx="856440" cy="1681920"/>
          </a:xfrm>
          <a:prstGeom prst="curvedConnector2">
            <a:avLst/>
          </a:prstGeom>
          <a:ln w="19080">
            <a:solidFill>
              <a:srgbClr val="3366ff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52" name=""/>
          <p:cNvCxnSpPr>
            <a:stCxn id="149" idx="2"/>
            <a:endCxn id="153" idx="3"/>
          </p:cNvCxnSpPr>
          <p:nvPr/>
        </p:nvCxnSpPr>
        <p:spPr>
          <a:xfrm rot="5400000">
            <a:off x="5860440" y="4730400"/>
            <a:ext cx="856440" cy="130104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"/>
          <p:cNvCxnSpPr>
            <a:endCxn id="149" idx="1"/>
          </p:cNvCxnSpPr>
          <p:nvPr/>
        </p:nvCxnSpPr>
        <p:spPr>
          <a:xfrm>
            <a:off x="2742840" y="3720960"/>
            <a:ext cx="3353400" cy="51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1"/>
          </p:cNvCxnSpPr>
          <p:nvPr/>
        </p:nvCxnSpPr>
        <p:spPr>
          <a:xfrm flipH="1" flipV="1" rot="5400000">
            <a:off x="1894320" y="1668960"/>
            <a:ext cx="1621440" cy="1753200"/>
          </a:xfrm>
          <a:prstGeom prst="curvedConnector2">
            <a:avLst/>
          </a:prstGeom>
          <a:ln w="19080">
            <a:solidFill>
              <a:srgbClr val="3366ff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57" name=""/>
          <p:cNvCxnSpPr>
            <a:stCxn id="156" idx="2"/>
            <a:endCxn id="153" idx="1"/>
          </p:cNvCxnSpPr>
          <p:nvPr/>
        </p:nvCxnSpPr>
        <p:spPr>
          <a:xfrm flipH="1" rot="16200000">
            <a:off x="1705680" y="4237200"/>
            <a:ext cx="1694520" cy="144864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3208680" y="4267080"/>
            <a:ext cx="2094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91120" y="38862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666880" y="4648320"/>
            <a:ext cx="5335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648320"/>
            <a:ext cx="106668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51840" y="2743200"/>
            <a:ext cx="299556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ent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590560" y="2362320"/>
            <a:ext cx="152280" cy="3808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15000" y="2057040"/>
            <a:ext cx="304920" cy="6858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13016" t="16567" r="14203" b="43197"/>
          <a:stretch/>
        </p:blipFill>
        <p:spPr>
          <a:xfrm>
            <a:off x="914400" y="3355920"/>
            <a:ext cx="1828800" cy="758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Air Traffic Control Specialist"/>
          <p:cNvPicPr/>
          <p:nvPr/>
        </p:nvPicPr>
        <p:blipFill>
          <a:blip r:embed="rId3"/>
          <a:stretch/>
        </p:blipFill>
        <p:spPr>
          <a:xfrm>
            <a:off x="3581280" y="1143000"/>
            <a:ext cx="1676520" cy="1184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337" t="29535" r="0" b="0"/>
          <a:stretch/>
        </p:blipFill>
        <p:spPr>
          <a:xfrm>
            <a:off x="3276720" y="5181480"/>
            <a:ext cx="2361960" cy="1252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79760" y="59436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5000" y="1219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49" idx="3"/>
            <a:endCxn id="167" idx="2"/>
          </p:cNvCxnSpPr>
          <p:nvPr/>
        </p:nvCxnSpPr>
        <p:spPr>
          <a:xfrm flipH="1">
            <a:off x="4457160" y="3771720"/>
            <a:ext cx="3324600" cy="2662560"/>
          </a:xfrm>
          <a:prstGeom prst="bentConnector4">
            <a:avLst>
              <a:gd name="adj1" fmla="val -6865"/>
              <a:gd name="adj2" fmla="val 108532"/>
            </a:avLst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6629760" y="61722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S in 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5181480"/>
            <a:ext cx="5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3565440"/>
            <a:ext cx="68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1981080"/>
            <a:ext cx="5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C90-029B-4D60-8436-5599045137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OWBIRD FLUTTER RU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581640" cy="27381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wbird MOA in Tennes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A lateral confines very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Conditions: ~.875M/500 K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8 nm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6.5 nm turn ra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xclusive of other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C focus on commercial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layers (test aircraft, chase,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congestion (mission and A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luous (script not adhered 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 sec: chase “abort” call to test aircraft acknowle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tter rap call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6AB-C33D-4F3B-A9A9-39AC94C41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FLIGHT DISPL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562360" cy="4172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" y="19810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3657600"/>
            <a:ext cx="1143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5791320"/>
            <a:ext cx="1143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1905120"/>
            <a:ext cx="1143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363920"/>
            <a:ext cx="1143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371600" y="411480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133720"/>
            <a:ext cx="6858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400440" y="2057400"/>
            <a:ext cx="12193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086600" y="320004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5430960"/>
            <a:ext cx="1143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5791320"/>
            <a:ext cx="1143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 Spe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219320" y="4266720"/>
            <a:ext cx="12189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438280" y="4419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191120" y="4114440"/>
            <a:ext cx="7596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C7E-FFC7-4722-9B53-BB57F38A1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4191120" cy="27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547-B1E1-4300-BF05-E321BC66D2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417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TTER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A lateral confines very sm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xclusive of other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C focus on commercial traffic, no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layers (test aircraft, chase,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congestion (mission and 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luous (script not adhered 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 sec: chase “abort” call to test aircraft acknowle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EFE-2C0F-42E4-937B-1E37905C35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WARDS FLUTTER RU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91280" cy="3492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 restricted area (R-25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oundaries allowed for simpler tes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C focus on test aircraft, not commercial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r communication, script adherence empha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058-B598-465E-9106-35FDBF3C2B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190760" cy="27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5D4-9851-49B0-B72A-F9BA760347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859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S LEARNED &amp; RECOMMEND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3809520"/>
            <a:ext cx="4648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ly evaluate comm setup between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cripting highly complex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100% “buy-in” and adherence of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11434" r="0" b="2862"/>
          <a:stretch/>
        </p:blipFill>
        <p:spPr>
          <a:xfrm>
            <a:off x="228600" y="1143000"/>
            <a:ext cx="4191120" cy="2565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4495680" y="1143000"/>
            <a:ext cx="4648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ssons Learn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 very challe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lay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s frequently gar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RM was attain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ICS TM feed from CP to Jump seat –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8480" indent="-14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success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8480" indent="-14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CS TM feed on EDW flu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and adhered to script –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07F-5E71-4AD0-9079-5AACE51BAF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191120" y="3657600"/>
            <a:ext cx="3857400" cy="2590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3809880" cy="2558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914400" y="3657600"/>
            <a:ext cx="3821040" cy="2590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724280" y="114300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2B4-9C4B-467D-A15F-0094208B5B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Enhancement &amp; Re-engining Program (RERP)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Aircraft/Control Room/Comm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P First F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tter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tter Test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wbird Flutter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wards Flutter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s Learned/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A7F-C021-4C3B-844A-8D5B44424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VATED RISK TESTING PLA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216680" cy="2629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4267080" cy="30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1B8-D281-4D40-977A-1F0AD0D63D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6F6-3A3E-422D-B1AA-37C34A8C1BD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CAS v. Altitu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53440" y="346536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22.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70000" y="3962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620120" y="5715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rcRect l="0" t="0" r="0" b="47055"/>
          <a:stretch/>
        </p:blipFill>
        <p:spPr>
          <a:xfrm>
            <a:off x="533520" y="1295280"/>
            <a:ext cx="7048440" cy="5067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38080" y="3886200"/>
            <a:ext cx="7391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C85-3779-44A0-B5BA-A48F31855BE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COMMUNICATION N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676520"/>
            <a:ext cx="6098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057400"/>
            <a:ext cx="6094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2489040"/>
            <a:ext cx="6098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057400"/>
            <a:ext cx="6094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905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2209680"/>
            <a:ext cx="609480" cy="276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2260440"/>
            <a:ext cx="6098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209680"/>
            <a:ext cx="609840" cy="276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3505320"/>
            <a:ext cx="6094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3505320"/>
            <a:ext cx="6094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39076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114800"/>
            <a:ext cx="1143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ulsion Disciplinary Engin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4114800"/>
            <a:ext cx="1143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ionics Disciplinary Engin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6010200"/>
            <a:ext cx="1143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Q        Disciplinary Engin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00800" y="6010200"/>
            <a:ext cx="1143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Disciplinary Engin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5460840"/>
            <a:ext cx="6094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5460840"/>
            <a:ext cx="6094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5146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3657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55627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5562720"/>
            <a:ext cx="45720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10280" y="5562720"/>
            <a:ext cx="0" cy="45720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3720" y="5562720"/>
            <a:ext cx="45720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5562720"/>
            <a:ext cx="0" cy="45720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2971800"/>
            <a:ext cx="114300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15000" y="2590920"/>
            <a:ext cx="0" cy="38088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2362320"/>
            <a:ext cx="53316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809880" y="2362320"/>
            <a:ext cx="45720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3657600"/>
            <a:ext cx="45720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3657600"/>
            <a:ext cx="0" cy="45720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3657600"/>
            <a:ext cx="45720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657600"/>
            <a:ext cx="0" cy="45720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24382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3200400"/>
            <a:ext cx="388620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2004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320040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895120" y="52578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52578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20040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486040" y="52578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1219320"/>
            <a:ext cx="1981080" cy="8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 Co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o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 Co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1628640"/>
            <a:ext cx="60984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188604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2743200"/>
            <a:ext cx="60984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1143000" cy="5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8C9-FD6A-4EDB-AFA9-285FC55329E2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-5M MOD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REFER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itial Flight Testing of the C-5M Super Galax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tephen A. Knoblock, presented at the 5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TP Symposium, September 2006, Anaheim, 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-5 Reliability Enhancement &amp; Re-Engining Program  (RERP) Initial Flight Test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e R. Smith, presented at the 3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FTE International Symposium, September 2006, Reno, N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3520" y="1066680"/>
          <a:ext cx="7848360" cy="46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84836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65A-A496-4BA2-B59B-643ED670C4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5M FLIGHT D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505320"/>
            <a:ext cx="914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3429000"/>
            <a:ext cx="1357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3962520"/>
            <a:ext cx="914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5181480"/>
            <a:ext cx="106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63868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ipline Engineer or 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F93-C252-49BC-8EB1-9AC8019494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setup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Directors communicate to the air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discipline engineers on control room net, can also make a KIO call over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ergency backup stand-alone radio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often with 100%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held telephone, hard to incorporate control room head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ho existed due to different methods, transmit &amp; 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t to aircraft via radio tuned to mission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lot ICS box on the airplane telemetered to control room, heard by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337" t="29535" r="0" b="0"/>
          <a:stretch/>
        </p:blipFill>
        <p:spPr>
          <a:xfrm>
            <a:off x="1447920" y="1066680"/>
            <a:ext cx="6019560" cy="3192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5M MISSION CONTROL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1219320"/>
            <a:ext cx="144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Discipline Engineer 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19560" y="160020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886200" y="1600200"/>
            <a:ext cx="32767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19160" y="1600200"/>
            <a:ext cx="43434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905120"/>
            <a:ext cx="14479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Test Director 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743200"/>
            <a:ext cx="7621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BA0-18F1-4F7C-A394-2522EEB36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ROADM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1685880" cy="2361960"/>
          </a:xfrm>
          <a:prstGeom prst="rect">
            <a:avLst/>
          </a:prstGeom>
          <a:ln w="0">
            <a:noFill/>
          </a:ln>
        </p:spPr>
      </p:pic>
      <p:cxnSp>
        <p:nvCxnSpPr>
          <p:cNvPr id="78" name=""/>
          <p:cNvCxnSpPr>
            <a:stCxn id="77" idx="0"/>
            <a:endCxn id="79" idx="3"/>
          </p:cNvCxnSpPr>
          <p:nvPr/>
        </p:nvCxnSpPr>
        <p:spPr>
          <a:xfrm flipV="1" rot="16200000">
            <a:off x="5670000" y="1321560"/>
            <a:ext cx="856440" cy="1681920"/>
          </a:xfrm>
          <a:prstGeom prst="curvedConnector2">
            <a:avLst/>
          </a:prstGeom>
          <a:ln w="19080">
            <a:solidFill>
              <a:srgbClr val="3366ff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77" idx="2"/>
            <a:endCxn id="81" idx="3"/>
          </p:cNvCxnSpPr>
          <p:nvPr/>
        </p:nvCxnSpPr>
        <p:spPr>
          <a:xfrm rot="5400000">
            <a:off x="5860440" y="4730400"/>
            <a:ext cx="856440" cy="130104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endCxn id="77" idx="1"/>
          </p:cNvCxnSpPr>
          <p:nvPr/>
        </p:nvCxnSpPr>
        <p:spPr>
          <a:xfrm>
            <a:off x="2742840" y="3720960"/>
            <a:ext cx="3353400" cy="51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84" idx="0"/>
            <a:endCxn id="79" idx="1"/>
          </p:cNvCxnSpPr>
          <p:nvPr/>
        </p:nvCxnSpPr>
        <p:spPr>
          <a:xfrm flipH="1" flipV="1" rot="5400000">
            <a:off x="1894320" y="1668960"/>
            <a:ext cx="1621440" cy="1753200"/>
          </a:xfrm>
          <a:prstGeom prst="curvedConnector2">
            <a:avLst/>
          </a:prstGeom>
          <a:ln w="19080">
            <a:solidFill>
              <a:srgbClr val="3366ff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84" idx="2"/>
            <a:endCxn id="81" idx="1"/>
          </p:cNvCxnSpPr>
          <p:nvPr/>
        </p:nvCxnSpPr>
        <p:spPr>
          <a:xfrm flipH="1" rot="16200000">
            <a:off x="1705680" y="4237200"/>
            <a:ext cx="1694520" cy="144864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208680" y="4267080"/>
            <a:ext cx="2094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91120" y="38862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666880" y="4648320"/>
            <a:ext cx="5335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4648320"/>
            <a:ext cx="106668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51840" y="2743200"/>
            <a:ext cx="299556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ent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590560" y="2362320"/>
            <a:ext cx="152280" cy="3808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715000" y="2057040"/>
            <a:ext cx="304920" cy="6858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13016" t="16567" r="14203" b="43197"/>
          <a:stretch/>
        </p:blipFill>
        <p:spPr>
          <a:xfrm>
            <a:off x="914400" y="3355920"/>
            <a:ext cx="1828800" cy="7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ir Traffic Control Specialist"/>
          <p:cNvPicPr/>
          <p:nvPr/>
        </p:nvPicPr>
        <p:blipFill>
          <a:blip r:embed="rId3"/>
          <a:stretch/>
        </p:blipFill>
        <p:spPr>
          <a:xfrm>
            <a:off x="3581280" y="1143000"/>
            <a:ext cx="1676520" cy="1184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337" t="29535" r="0" b="0"/>
          <a:stretch/>
        </p:blipFill>
        <p:spPr>
          <a:xfrm>
            <a:off x="3276720" y="5181480"/>
            <a:ext cx="2361960" cy="1252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9760" y="59436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20960" y="1219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77" idx="3"/>
            <a:endCxn id="95" idx="2"/>
          </p:cNvCxnSpPr>
          <p:nvPr/>
        </p:nvCxnSpPr>
        <p:spPr>
          <a:xfrm flipH="1">
            <a:off x="4457160" y="3771720"/>
            <a:ext cx="3324600" cy="2662560"/>
          </a:xfrm>
          <a:prstGeom prst="bentConnector4">
            <a:avLst>
              <a:gd name="adj1" fmla="val -6865"/>
              <a:gd name="adj2" fmla="val 108532"/>
            </a:avLst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6629760" y="61722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S in 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059-058A-4DFD-8843-4902A69269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RP FIRST FL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5181480"/>
            <a:ext cx="76960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Ri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hase, Min Crew, TM to Cont’l 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light 19 Jun 06: Predicted to take 1-2 flights, 4 req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goal:  Demo aircraft flightworth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os w/in limited envel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of dedicated test points, functional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625320"/>
          <a:ext cx="8534520" cy="47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5320"/>
                    <a:ext cx="853452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CCF-1B78-43B3-8502-E1A4A03A5E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RP FIRST FL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mal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ps (jammed at 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ust Reversers (asymmetric deployment on l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ATC comm was a nui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Room Ech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iscip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craft out-of-synch with control room &amp; 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M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m TM moved from Copilot to Jump (onboard 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developing &amp; adhering to test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n flutter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255-04BC-4FE5-BA9C-CB1760DF15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TTER MANEU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209680"/>
            <a:ext cx="6858000" cy="1752840"/>
          </a:xfrm>
          <a:custGeom>
            <a:avLst/>
            <a:gdLst/>
            <a:ahLst/>
            <a:rect l="l" t="t" r="r" b="b"/>
            <a:pathLst>
              <a:path w="4176" h="736">
                <a:moveTo>
                  <a:pt x="0" y="48"/>
                </a:moveTo>
                <a:cubicBezTo>
                  <a:pt x="376" y="24"/>
                  <a:pt x="752" y="0"/>
                  <a:pt x="1200" y="96"/>
                </a:cubicBezTo>
                <a:cubicBezTo>
                  <a:pt x="1648" y="192"/>
                  <a:pt x="2192" y="520"/>
                  <a:pt x="2688" y="624"/>
                </a:cubicBezTo>
                <a:cubicBezTo>
                  <a:pt x="3184" y="728"/>
                  <a:pt x="3808" y="736"/>
                  <a:pt x="4176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280600">
            <a:off x="7619760" y="3733920"/>
            <a:ext cx="990360" cy="164880"/>
          </a:xfrm>
          <a:custGeom>
            <a:avLst/>
            <a:gdLst/>
            <a:ahLst/>
            <a:rect l="l" t="t" r="r" b="b"/>
            <a:pathLst>
              <a:path w="288" h="8">
                <a:moveTo>
                  <a:pt x="0" y="0"/>
                </a:moveTo>
                <a:cubicBezTo>
                  <a:pt x="96" y="4"/>
                  <a:pt x="192" y="8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8534520" y="34286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286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2240" y="2286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.0 d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9120" y="29718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6 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6668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98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600" y="2362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4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96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5000" y="121932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27K entry altitude, 0.84 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8006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performed Elevator, Aileron, &amp; Rudder rap separately with 5 second intervals between each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676520"/>
          <a:ext cx="175284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17528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124080" y="3200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7640" y="2895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5040" y="2895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4680" y="31240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791320" y="289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7120" y="4800600"/>
            <a:ext cx="7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8040" y="4800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50520" y="48006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7200" y="4495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200" y="5105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4360" y="449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74360" y="510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6840" y="419112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120" y="28954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743200"/>
            <a:ext cx="0" cy="990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7432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7339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191120"/>
            <a:ext cx="23619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40384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3960" y="3886200"/>
            <a:ext cx="203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-25 sec to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A24-A0A8-40D2-9D2B-C4E4BDFCCF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16:52Z</dcterms:created>
  <dc:creator>Wade Smith</dc:creator>
  <dc:description/>
  <dc:language>en-US</dc:language>
  <cp:lastModifiedBy>thomas.roberts</cp:lastModifiedBy>
  <dcterms:modified xsi:type="dcterms:W3CDTF">2007-05-15T14:16:58Z</dcterms:modified>
  <cp:revision>215</cp:revision>
  <dc:subject/>
  <dc:title>C-5 RERP Ground Test Brief</dc:title>
</cp:coreProperties>
</file>