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17.jpeg" ContentType="image/jpeg"/>
  <Override PartName="/ppt/media/image9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601200" cy="73152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66400" y="690120"/>
            <a:ext cx="4529160" cy="345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7422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7422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161D0D-6068-4DBF-86A1-437AD58FF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66760" y="690480"/>
            <a:ext cx="4529160" cy="345132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66760" y="690480"/>
            <a:ext cx="4529160" cy="345132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66760" y="690480"/>
            <a:ext cx="4529160" cy="345132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66760" y="690480"/>
            <a:ext cx="4529160" cy="34513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66760" y="690480"/>
            <a:ext cx="4529160" cy="345132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66760" y="690480"/>
            <a:ext cx="4529160" cy="345132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66760" y="690480"/>
            <a:ext cx="4529160" cy="345132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66760" y="690480"/>
            <a:ext cx="4529160" cy="345132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66760" y="690480"/>
            <a:ext cx="4529160" cy="345132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66760" y="690480"/>
            <a:ext cx="4529160" cy="34513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66760" y="690480"/>
            <a:ext cx="4529160" cy="345132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66760" y="690480"/>
            <a:ext cx="4529160" cy="345132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D0757-6A2F-45F3-A0E6-E0A5F6FF8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06400" y="483840"/>
            <a:ext cx="8285040" cy="5094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00000" y="1371600"/>
            <a:ext cx="8126640" cy="24289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0000"/>
              </a:lnSpc>
              <a:spcAft>
                <a:spcPts val="90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00000" y="4031640"/>
            <a:ext cx="8126640" cy="24289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0000"/>
              </a:lnSpc>
              <a:spcAft>
                <a:spcPts val="90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7126D-6C7C-4E20-92E1-78B28C6C5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483840"/>
            <a:ext cx="8285040" cy="5094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0000" y="1371600"/>
            <a:ext cx="3965760" cy="24289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0000"/>
              </a:lnSpc>
              <a:spcAft>
                <a:spcPts val="90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4480" y="1371600"/>
            <a:ext cx="3965760" cy="24289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0000"/>
              </a:lnSpc>
              <a:spcAft>
                <a:spcPts val="90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000" y="4031640"/>
            <a:ext cx="3965760" cy="24289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0000"/>
              </a:lnSpc>
              <a:spcAft>
                <a:spcPts val="90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4480" y="4031640"/>
            <a:ext cx="3965760" cy="24289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0000"/>
              </a:lnSpc>
              <a:spcAft>
                <a:spcPts val="90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0598D-4A5C-4136-BE26-2EEF3DA7E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06400" y="483840"/>
            <a:ext cx="8285040" cy="5094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00000" y="1371600"/>
            <a:ext cx="2616480" cy="24289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0000"/>
              </a:lnSpc>
              <a:spcAft>
                <a:spcPts val="90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47520" y="1371600"/>
            <a:ext cx="2616480" cy="24289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0000"/>
              </a:lnSpc>
              <a:spcAft>
                <a:spcPts val="90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395400" y="1371600"/>
            <a:ext cx="2616480" cy="24289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0000"/>
              </a:lnSpc>
              <a:spcAft>
                <a:spcPts val="90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00000" y="4031640"/>
            <a:ext cx="2616480" cy="24289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0000"/>
              </a:lnSpc>
              <a:spcAft>
                <a:spcPts val="90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47520" y="4031640"/>
            <a:ext cx="2616480" cy="24289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0000"/>
              </a:lnSpc>
              <a:spcAft>
                <a:spcPts val="90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395400" y="4031640"/>
            <a:ext cx="2616480" cy="24289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0000"/>
              </a:lnSpc>
              <a:spcAft>
                <a:spcPts val="90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90EA8-0163-4853-944A-606DBFD41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06400" y="483840"/>
            <a:ext cx="8285040" cy="5094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00000" y="1371600"/>
            <a:ext cx="8126640" cy="50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Aft>
                <a:spcPts val="901"/>
              </a:spcAft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04253-0E52-4C7D-80BE-A1037B2E5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483840"/>
            <a:ext cx="8285040" cy="5094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00000" y="1371600"/>
            <a:ext cx="8126640" cy="5092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0000"/>
              </a:lnSpc>
              <a:spcAft>
                <a:spcPts val="90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F58A9-F5B9-4671-BB5D-04178976F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483840"/>
            <a:ext cx="8285040" cy="5094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00000" y="1371600"/>
            <a:ext cx="3965760" cy="5092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0000"/>
              </a:lnSpc>
              <a:spcAft>
                <a:spcPts val="90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480" y="1371600"/>
            <a:ext cx="3965760" cy="5092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0000"/>
              </a:lnSpc>
              <a:spcAft>
                <a:spcPts val="90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62EA3-20B2-446F-BEED-1A3BD0DE8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06400" y="483840"/>
            <a:ext cx="8285040" cy="5094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25BC6-A890-42E0-B385-1134331C3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806400" y="483840"/>
            <a:ext cx="828504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901"/>
              </a:spcAft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1292E-D121-4219-A3DF-0BFBF10F6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06400" y="483840"/>
            <a:ext cx="8285040" cy="5094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00000" y="1371600"/>
            <a:ext cx="3965760" cy="24289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0000"/>
              </a:lnSpc>
              <a:spcAft>
                <a:spcPts val="90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4480" y="1371600"/>
            <a:ext cx="3965760" cy="5092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0000"/>
              </a:lnSpc>
              <a:spcAft>
                <a:spcPts val="90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00000" y="4031640"/>
            <a:ext cx="3965760" cy="24289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0000"/>
              </a:lnSpc>
              <a:spcAft>
                <a:spcPts val="90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E5B8E-F390-4993-A74C-F2417BF5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06400" y="483840"/>
            <a:ext cx="8285040" cy="5094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00000" y="1371600"/>
            <a:ext cx="3965760" cy="5092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0000"/>
              </a:lnSpc>
              <a:spcAft>
                <a:spcPts val="90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4480" y="1371600"/>
            <a:ext cx="3965760" cy="24289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0000"/>
              </a:lnSpc>
              <a:spcAft>
                <a:spcPts val="90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4480" y="4031640"/>
            <a:ext cx="3965760" cy="24289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0000"/>
              </a:lnSpc>
              <a:spcAft>
                <a:spcPts val="90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A286C-A4F5-41AC-B309-E19E5F96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06400" y="483840"/>
            <a:ext cx="8285040" cy="5094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00000" y="1371600"/>
            <a:ext cx="3965760" cy="24289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0000"/>
              </a:lnSpc>
              <a:spcAft>
                <a:spcPts val="90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4480" y="1371600"/>
            <a:ext cx="3965760" cy="24289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0000"/>
              </a:lnSpc>
              <a:spcAft>
                <a:spcPts val="90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00000" y="4031640"/>
            <a:ext cx="8126640" cy="24289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0000"/>
              </a:lnSpc>
              <a:spcAft>
                <a:spcPts val="90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0210D-EC64-4F51-A6F6-D905744A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8270"/>
          <a:stretch/>
        </p:blipFill>
        <p:spPr>
          <a:xfrm>
            <a:off x="6781680" y="6630840"/>
            <a:ext cx="2819520" cy="6699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7545960" y="7134120"/>
            <a:ext cx="198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Copyright 2006 Northrop Grumman Corporation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rcRect l="46275" t="0" r="8950" b="0"/>
          <a:stretch/>
        </p:blipFill>
        <p:spPr>
          <a:xfrm>
            <a:off x="0" y="0"/>
            <a:ext cx="762120" cy="73152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1009800"/>
            <a:ext cx="9601200" cy="0"/>
          </a:xfrm>
          <a:prstGeom prst="line">
            <a:avLst/>
          </a:prstGeom>
          <a:ln w="38160">
            <a:solidFill>
              <a:srgbClr val="ed1a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06400" y="483840"/>
            <a:ext cx="8285040" cy="5094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00000" y="1371600"/>
            <a:ext cx="8126640" cy="5092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293760" indent="-293760">
              <a:lnSpc>
                <a:spcPct val="90000"/>
              </a:lnSpc>
              <a:spcAft>
                <a:spcPts val="901"/>
              </a:spcAft>
              <a:buClr>
                <a:srgbClr val="006699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395280">
              <a:lnSpc>
                <a:spcPct val="90000"/>
              </a:lnSpc>
              <a:spcAft>
                <a:spcPts val="901"/>
              </a:spcAft>
              <a:buClr>
                <a:srgbClr val="006699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36760" indent="-235080">
              <a:lnSpc>
                <a:spcPct val="90000"/>
              </a:lnSpc>
              <a:spcAft>
                <a:spcPts val="901"/>
              </a:spcAft>
              <a:buClr>
                <a:srgbClr val="006699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93880" indent="-243000">
              <a:lnSpc>
                <a:spcPct val="90000"/>
              </a:lnSpc>
              <a:spcAft>
                <a:spcPts val="901"/>
              </a:spcAft>
              <a:buClr>
                <a:srgbClr val="006699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74760" indent="-241200">
              <a:lnSpc>
                <a:spcPct val="90000"/>
              </a:lnSpc>
              <a:spcAft>
                <a:spcPts val="901"/>
              </a:spcAft>
              <a:buClr>
                <a:srgbClr val="006699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74760" indent="-241200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74760" indent="-241200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-360" y="6967080"/>
            <a:ext cx="762120" cy="3812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2547B2-A8E6-46F9-ACBE-EE5610870AF0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97248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dt" idx="2"/>
          </p:nvPr>
        </p:nvSpPr>
        <p:spPr>
          <a:xfrm>
            <a:off x="1064880" y="7130520"/>
            <a:ext cx="213372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0D012-7B7E-4B76-96A8-A84391876D86}" type="datetime">
              <a:rPr b="0" lang="en-US" sz="800" spc="-1" strike="noStrike">
                <a:solidFill>
                  <a:srgbClr val="000000"/>
                </a:solidFill>
                <a:latin typeface="Arial Narrow"/>
              </a:rPr>
              <a:t>07/31/26</a:t>
            </a:fld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fld id="{9AD85CD0-0B45-49D3-83F2-02C34BB8E1B4}" type="datetime10">
              <a:rPr b="0" lang="en-US" sz="800" spc="-1" strike="noStrike">
                <a:solidFill>
                  <a:srgbClr val="000000"/>
                </a:solidFill>
                <a:latin typeface="Arial Narrow"/>
              </a:rPr>
              <a:t>13:34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ftr" idx="3"/>
          </p:nvPr>
        </p:nvSpPr>
        <p:spPr>
          <a:xfrm>
            <a:off x="2289240" y="7130880"/>
            <a:ext cx="410040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ed1a2d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d1a2d"/>
                </a:solidFill>
                <a:latin typeface="Arial Narrow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law-intro.wav" TargetMode="External"/><Relationship Id="rId2" Type="http://schemas.microsoft.com/office/2007/relationships/media" Target="file:///tmp/home/.config/libreoffice/4/user/gallery/law-intro.wav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wmf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751" t="0" r="751" b="0"/>
          <a:stretch/>
        </p:blipFill>
        <p:spPr>
          <a:xfrm>
            <a:off x="-3240" y="0"/>
            <a:ext cx="9607680" cy="7315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581280" y="1778040"/>
            <a:ext cx="5791320" cy="20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Tahoma"/>
              </a:rPr>
              <a:t>Crew Resource Management to the Rescu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05040" y="5676840"/>
            <a:ext cx="593892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spcAft>
                <a:spcPts val="88"/>
              </a:spcAft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9 May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88"/>
              </a:spcAft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Troy Johnson                                   Lisa DeR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6"/>
              </a:spcAft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Flight Test Operations Manager                  Chief Air Vehicle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81280" y="5638680"/>
            <a:ext cx="6019920" cy="0"/>
          </a:xfrm>
          <a:prstGeom prst="line">
            <a:avLst/>
          </a:prstGeom>
          <a:ln w="31680">
            <a:solidFill>
              <a:srgbClr val="ed1a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D52CF-182B-47C3-9BD2-BA91C1539EEA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EA6985E-DBD0-489D-AA73-41B249759448}" type="datetime8">
              <a:rPr lang="en-US"/>
              <a:t>07/31/26 13:34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06400" y="485640"/>
            <a:ext cx="8285040" cy="507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How Does CRM Apply to Our Situation?</a:t>
            </a:r>
            <a:endParaRPr b="1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00000" y="1371600"/>
            <a:ext cx="8126640" cy="5092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293760" indent="-293760">
              <a:lnSpc>
                <a:spcPct val="90000"/>
              </a:lnSpc>
              <a:spcAft>
                <a:spcPts val="901"/>
              </a:spcAft>
              <a:buClr>
                <a:srgbClr val="006699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fety Summit revealed systemic case of human error in test exec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90000"/>
              </a:lnSpc>
              <a:spcAft>
                <a:spcPts val="901"/>
              </a:spcAft>
              <a:buClr>
                <a:srgbClr val="006699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arching justification for CRM is error management”-- avoiding error and mitigating the consequences of error when they occu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90000"/>
              </a:lnSpc>
              <a:spcAft>
                <a:spcPts val="901"/>
              </a:spcAft>
              <a:buClr>
                <a:srgbClr val="006699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ned vs Unmanned risks/limitations and error avoid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395280">
              <a:lnSpc>
                <a:spcPct val="90000"/>
              </a:lnSpc>
              <a:spcAft>
                <a:spcPts val="901"/>
              </a:spcAft>
              <a:buClr>
                <a:srgbClr val="006699"/>
              </a:buClr>
              <a:buFont typeface="Wingdings" charset="2"/>
              <a:buChar char="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ident rate compar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90000"/>
              </a:lnSpc>
              <a:spcAft>
                <a:spcPts val="901"/>
              </a:spcAft>
              <a:buClr>
                <a:srgbClr val="006699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ying Test focused CRM likely to bear some fruit for our situ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395280">
              <a:lnSpc>
                <a:spcPct val="90000"/>
              </a:lnSpc>
              <a:spcAft>
                <a:spcPts val="901"/>
              </a:spcAft>
              <a:buClr>
                <a:srgbClr val="006699"/>
              </a:buClr>
              <a:buFont typeface="Wingdings" charset="2"/>
              <a:buChar char="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nd Test  &amp;  Mission Rehears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3760" indent="0">
              <a:lnSpc>
                <a:spcPct val="90000"/>
              </a:lnSpc>
              <a:spcAft>
                <a:spcPts val="90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3760" indent="0">
              <a:lnSpc>
                <a:spcPct val="90000"/>
              </a:lnSpc>
              <a:spcAft>
                <a:spcPts val="90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2A2D3-C3E4-4EC5-A1B6-14D98C5449B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87F9102A-B4C0-45DF-AD6E-D3EAD94FBE0F}" type="datetime8">
              <a:rPr lang="en-US"/>
              <a:t>07/31/26 13:34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06400" y="485640"/>
            <a:ext cx="8285040" cy="507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CRM at the Management Level</a:t>
            </a:r>
            <a:endParaRPr b="1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00000" y="1371600"/>
            <a:ext cx="8126640" cy="5092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293760" indent="-293760">
              <a:lnSpc>
                <a:spcPct val="90000"/>
              </a:lnSpc>
              <a:spcAft>
                <a:spcPts val="901"/>
              </a:spcAft>
              <a:buClr>
                <a:srgbClr val="006699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ying the foundation for a CRM culture at the Management Level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395280">
              <a:lnSpc>
                <a:spcPct val="90000"/>
              </a:lnSpc>
              <a:spcAft>
                <a:spcPts val="901"/>
              </a:spcAft>
              <a:buClr>
                <a:srgbClr val="006699"/>
              </a:buClr>
              <a:buFont typeface="Wingdings" charset="2"/>
              <a:buChar char="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ince Management that CRM is a useful tool for managing error &amp;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395280">
              <a:lnSpc>
                <a:spcPct val="90000"/>
              </a:lnSpc>
              <a:spcAft>
                <a:spcPts val="901"/>
              </a:spcAft>
              <a:buClr>
                <a:srgbClr val="006699"/>
              </a:buClr>
              <a:buFont typeface="Wingdings" charset="2"/>
              <a:buChar char="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 down the stovepipes thru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36760" indent="-235080">
              <a:lnSpc>
                <a:spcPct val="90000"/>
              </a:lnSpc>
              <a:spcAft>
                <a:spcPts val="675"/>
              </a:spcAft>
              <a:buClr>
                <a:srgbClr val="006699"/>
              </a:buClr>
              <a:buFont typeface="Wingdings" charset="2"/>
              <a:buChar char="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uc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395280">
              <a:lnSpc>
                <a:spcPct val="90000"/>
              </a:lnSpc>
              <a:spcAft>
                <a:spcPts val="901"/>
              </a:spcAft>
              <a:buClr>
                <a:srgbClr val="006699"/>
              </a:buClr>
              <a:buFont typeface="Wingdings" charset="2"/>
              <a:buChar char="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Best Practices and Standardize procedures across th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36760" indent="-235080">
              <a:lnSpc>
                <a:spcPct val="90000"/>
              </a:lnSpc>
              <a:spcAft>
                <a:spcPts val="675"/>
              </a:spcAft>
              <a:buClr>
                <a:srgbClr val="006699"/>
              </a:buClr>
              <a:buFont typeface="Wingdings" charset="2"/>
              <a:buChar char="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t Development Infrastructure Improvement Initiative (PDI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36760" indent="-235080">
              <a:lnSpc>
                <a:spcPct val="90000"/>
              </a:lnSpc>
              <a:spcAft>
                <a:spcPts val="675"/>
              </a:spcAft>
              <a:buClr>
                <a:srgbClr val="006699"/>
              </a:buClr>
              <a:buFont typeface="Wingdings" charset="2"/>
              <a:buChar char="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uc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395280">
              <a:lnSpc>
                <a:spcPct val="90000"/>
              </a:lnSpc>
              <a:spcAft>
                <a:spcPts val="901"/>
              </a:spcAft>
              <a:buClr>
                <a:srgbClr val="006699"/>
              </a:buClr>
              <a:buFont typeface="Wingdings" charset="2"/>
              <a:buChar char="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management 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36760" indent="-235080">
              <a:lnSpc>
                <a:spcPct val="90000"/>
              </a:lnSpc>
              <a:spcAft>
                <a:spcPts val="675"/>
              </a:spcAft>
              <a:buClr>
                <a:srgbClr val="006699"/>
              </a:buClr>
              <a:buFont typeface="Wingdings" charset="2"/>
              <a:buChar char="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uc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0">
              <a:lnSpc>
                <a:spcPct val="90000"/>
              </a:lnSpc>
              <a:spcAft>
                <a:spcPts val="675"/>
              </a:spcAft>
              <a:buNone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E9D6A-3BE4-48BC-9197-FA50AC7B808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FC8396F-0D9F-43C9-BB62-16ED432D17F8}" type="datetime8">
              <a:rPr lang="en-US"/>
              <a:t>07/31/26 13:34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06400" y="485640"/>
            <a:ext cx="8285040" cy="507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CRM at the Test Team</a:t>
            </a:r>
            <a:endParaRPr b="1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00000" y="1371600"/>
            <a:ext cx="8126640" cy="5092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293760" indent="-293760">
              <a:lnSpc>
                <a:spcPct val="90000"/>
              </a:lnSpc>
              <a:spcAft>
                <a:spcPts val="751"/>
              </a:spcAft>
              <a:buClr>
                <a:srgbClr val="006699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395280">
              <a:lnSpc>
                <a:spcPct val="90000"/>
              </a:lnSpc>
              <a:spcAft>
                <a:spcPts val="751"/>
              </a:spcAft>
              <a:buClr>
                <a:srgbClr val="006699"/>
              </a:buClr>
              <a:buFont typeface="Wingdings" charset="2"/>
              <a:buChar char="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team is our cr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36760" indent="-235080">
              <a:lnSpc>
                <a:spcPct val="90000"/>
              </a:lnSpc>
              <a:spcAft>
                <a:spcPts val="601"/>
              </a:spcAft>
              <a:buClr>
                <a:srgbClr val="006699"/>
              </a:buClr>
              <a:buFont typeface="Wingdings" charset="2"/>
              <a:buChar char="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 Director/Test Conductors/Operations/Engineers/Ground Cr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395280">
              <a:lnSpc>
                <a:spcPct val="90000"/>
              </a:lnSpc>
              <a:spcAft>
                <a:spcPts val="751"/>
              </a:spcAft>
              <a:buClr>
                <a:srgbClr val="006699"/>
              </a:buClr>
              <a:buFont typeface="Wingdings" charset="2"/>
              <a:buChar char="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s with the proposal where test team staffing requirements are first identified and necessary test disciplines are def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90000"/>
              </a:lnSpc>
              <a:spcAft>
                <a:spcPts val="751"/>
              </a:spcAft>
              <a:buClr>
                <a:srgbClr val="006699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W RESOUR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395280">
              <a:lnSpc>
                <a:spcPct val="90000"/>
              </a:lnSpc>
              <a:spcAft>
                <a:spcPts val="751"/>
              </a:spcAft>
              <a:buClr>
                <a:srgbClr val="006699"/>
              </a:buClr>
              <a:buFont typeface="Wingdings" charset="2"/>
              <a:buChar char="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we use and train our test crew resources are identified in procedures and in the test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36760" indent="-235080">
              <a:lnSpc>
                <a:spcPct val="90000"/>
              </a:lnSpc>
              <a:spcAft>
                <a:spcPts val="675"/>
              </a:spcAft>
              <a:buClr>
                <a:srgbClr val="006699"/>
              </a:buClr>
              <a:buFont typeface="Wingdings" charset="2"/>
              <a:buChar char="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sion Rehears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36760" indent="-235080">
              <a:lnSpc>
                <a:spcPct val="90000"/>
              </a:lnSpc>
              <a:spcAft>
                <a:spcPts val="675"/>
              </a:spcAft>
              <a:buClr>
                <a:srgbClr val="006699"/>
              </a:buClr>
              <a:buFont typeface="Wingdings" charset="2"/>
              <a:buChar char="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90000"/>
              </a:lnSpc>
              <a:spcAft>
                <a:spcPts val="751"/>
              </a:spcAft>
              <a:buClr>
                <a:srgbClr val="006699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W RESOURCE MANAG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395280">
              <a:lnSpc>
                <a:spcPct val="90000"/>
              </a:lnSpc>
              <a:spcAft>
                <a:spcPts val="751"/>
              </a:spcAft>
              <a:buClr>
                <a:srgbClr val="006699"/>
              </a:buClr>
              <a:buFont typeface="Wingdings" charset="2"/>
              <a:buChar char="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M or Error Management  driven home in the FRR and MR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0">
              <a:lnSpc>
                <a:spcPct val="90000"/>
              </a:lnSpc>
              <a:spcAft>
                <a:spcPts val="675"/>
              </a:spcAft>
              <a:buNone/>
              <a:tabLst>
                <a:tab algn="l" pos="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3760" indent="0">
              <a:lnSpc>
                <a:spcPct val="90000"/>
              </a:lnSpc>
              <a:spcAft>
                <a:spcPts val="675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F1A37-54BA-489D-964A-447DB8B121E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3A2B9C13-6C34-47E3-8250-FFB409FC44A0}" type="datetime8">
              <a:rPr lang="en-US"/>
              <a:t>07/31/26 13:34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06400" y="485640"/>
            <a:ext cx="8285040" cy="507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Applying CRM in Hindsight</a:t>
            </a:r>
            <a:endParaRPr b="1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00000" y="1371600"/>
            <a:ext cx="8126640" cy="5092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293760" indent="-293760">
              <a:lnSpc>
                <a:spcPct val="90000"/>
              </a:lnSpc>
              <a:spcAft>
                <a:spcPts val="1049"/>
              </a:spcAft>
              <a:buClr>
                <a:srgbClr val="006699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t Mort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395280">
              <a:lnSpc>
                <a:spcPct val="90000"/>
              </a:lnSpc>
              <a:spcAft>
                <a:spcPts val="901"/>
              </a:spcAft>
              <a:buClr>
                <a:srgbClr val="006699"/>
              </a:buClr>
              <a:buFont typeface="Wingdings" charset="2"/>
              <a:buChar char="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 Roles and Responsibilities (Internal and Exter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395280">
              <a:lnSpc>
                <a:spcPct val="90000"/>
              </a:lnSpc>
              <a:spcAft>
                <a:spcPts val="901"/>
              </a:spcAft>
              <a:buClr>
                <a:srgbClr val="006699"/>
              </a:buClr>
              <a:buFont typeface="Wingdings" charset="2"/>
              <a:buChar char="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nger “What-if” Scenarios and “Go – No/Go”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395280">
              <a:lnSpc>
                <a:spcPct val="90000"/>
              </a:lnSpc>
              <a:spcAft>
                <a:spcPts val="901"/>
              </a:spcAft>
              <a:buClr>
                <a:srgbClr val="006699"/>
              </a:buClr>
              <a:buFont typeface="Wingdings" charset="2"/>
              <a:buChar char="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herence to Procedures (existing and develop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395280">
              <a:lnSpc>
                <a:spcPct val="90000"/>
              </a:lnSpc>
              <a:spcAft>
                <a:spcPts val="901"/>
              </a:spcAft>
              <a:buClr>
                <a:srgbClr val="006699"/>
              </a:buClr>
              <a:buFont typeface="Wingdings" charset="2"/>
              <a:buChar char="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ower Current/Qualified TD/TC with overall Responsibility/Accountability/Authority for the flight test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395280">
              <a:lnSpc>
                <a:spcPct val="90000"/>
              </a:lnSpc>
              <a:spcAft>
                <a:spcPts val="901"/>
              </a:spcAft>
              <a:buClr>
                <a:srgbClr val="006699"/>
              </a:buClr>
              <a:buFont typeface="Wingdings" charset="2"/>
              <a:buChar char="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one is responsible for enforcing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395280">
              <a:lnSpc>
                <a:spcPct val="90000"/>
              </a:lnSpc>
              <a:spcAft>
                <a:spcPts val="901"/>
              </a:spcAft>
              <a:buClr>
                <a:srgbClr val="006699"/>
              </a:buClr>
              <a:buFont typeface="Wingdings" charset="2"/>
              <a:buChar char="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ower Test Team members to say s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36760" indent="0">
              <a:lnSpc>
                <a:spcPct val="90000"/>
              </a:lnSpc>
              <a:spcAft>
                <a:spcPts val="901"/>
              </a:spcAft>
              <a:buNone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22CAF-1AC5-4F9A-A764-B6EAA3604AD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C240A74-AB6E-4D2F-86D5-AE50080FFF31}" type="datetime8">
              <a:rPr lang="en-US"/>
              <a:t>07/31/26 13:34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30656" r="0" b="0"/>
          <a:stretch/>
        </p:blipFill>
        <p:spPr>
          <a:xfrm>
            <a:off x="1209600" y="4676760"/>
            <a:ext cx="5700960" cy="23655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900000" y="1125000"/>
            <a:ext cx="8126640" cy="50929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293760" indent="-293760">
              <a:lnSpc>
                <a:spcPct val="90000"/>
              </a:lnSpc>
              <a:spcAft>
                <a:spcPts val="901"/>
              </a:spcAft>
              <a:buClr>
                <a:srgbClr val="006699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in the test team in the fundamentals of the CRM 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90000"/>
              </a:lnSpc>
              <a:spcAft>
                <a:spcPts val="901"/>
              </a:spcAft>
              <a:buClr>
                <a:srgbClr val="006699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ying CRM in the control ro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395280">
              <a:lnSpc>
                <a:spcPct val="90000"/>
              </a:lnSpc>
              <a:spcAft>
                <a:spcPts val="675"/>
              </a:spcAft>
              <a:buClr>
                <a:srgbClr val="006699"/>
              </a:buClr>
              <a:buFont typeface="Wingdings" charset="2"/>
              <a:buChar char="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addressed early in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395280">
              <a:lnSpc>
                <a:spcPct val="90000"/>
              </a:lnSpc>
              <a:spcAft>
                <a:spcPts val="675"/>
              </a:spcAft>
              <a:buClr>
                <a:srgbClr val="006699"/>
              </a:buClr>
              <a:buFont typeface="Wingdings" charset="2"/>
              <a:buChar char="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Room Configuration Crucial to leveraging C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36760" indent="-235080">
              <a:lnSpc>
                <a:spcPct val="90000"/>
              </a:lnSpc>
              <a:spcAft>
                <a:spcPts val="601"/>
              </a:spcAft>
              <a:buClr>
                <a:srgbClr val="006699"/>
              </a:buClr>
              <a:buFont typeface="Wingdings" charset="2"/>
              <a:buChar char="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436760" indent="-235080">
              <a:lnSpc>
                <a:spcPct val="90000"/>
              </a:lnSpc>
              <a:spcAft>
                <a:spcPts val="601"/>
              </a:spcAft>
              <a:buClr>
                <a:srgbClr val="006699"/>
              </a:buClr>
              <a:buFont typeface="Wingdings" charset="2"/>
              <a:buChar char="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es and Responsibil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90000"/>
              </a:lnSpc>
              <a:spcAft>
                <a:spcPts val="901"/>
              </a:spcAft>
              <a:buClr>
                <a:srgbClr val="006699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and role of human factors involvement in development of operator control s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90000"/>
              </a:lnSpc>
              <a:spcAft>
                <a:spcPts val="751"/>
              </a:spcAft>
              <a:buClr>
                <a:srgbClr val="006699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rcise CRM principles by implementing Test Team EP of the day in mission brief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3676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43676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43676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806400" y="485640"/>
            <a:ext cx="8285040" cy="507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Applying CRM in the Future</a:t>
            </a:r>
            <a:endParaRPr b="1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919B4-1BC2-4592-93FB-119CA5F53C7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E2DF4167-335F-4C1F-BBE6-53004F88D061}" type="datetime8">
              <a:rPr lang="en-US"/>
              <a:t>07/31/26 13:3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06400" y="485640"/>
            <a:ext cx="8285040" cy="507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Conclusion &amp; Recommendations</a:t>
            </a:r>
            <a:endParaRPr b="1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00000" y="1371600"/>
            <a:ext cx="8126640" cy="5092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293760" indent="-293760">
              <a:lnSpc>
                <a:spcPct val="90000"/>
              </a:lnSpc>
              <a:spcAft>
                <a:spcPts val="901"/>
              </a:spcAft>
              <a:buClr>
                <a:srgbClr val="006699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 as an error management tool likely to bear some fruit for our test progr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90000"/>
              </a:lnSpc>
              <a:spcAft>
                <a:spcPts val="901"/>
              </a:spcAft>
              <a:buClr>
                <a:srgbClr val="006699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mmend test team CRM training and periodic rehearsal exerci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847960" y="3355920"/>
            <a:ext cx="4083120" cy="34131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875400" y="2865600"/>
            <a:ext cx="24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Got Safe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C6CB1-49A2-42C5-8644-D87F15DE474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30C216BA-3846-43C9-ACBE-F2DE04E5EA91}" type="datetime8">
              <a:rPr lang="en-US"/>
              <a:t>07/31/26 13:34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06400" y="485640"/>
            <a:ext cx="8285040" cy="507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Gratuitous Video</a:t>
            </a:r>
            <a:endParaRPr b="1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3286080" y="2546280"/>
            <a:ext cx="3352680" cy="274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4CA22-D956-46A7-B0D5-386EE8B49F7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D2CAC3C4-00A9-4A0D-8050-E80226F7D8CE}" type="datetime8">
              <a:rPr lang="en-US"/>
              <a:t>07/31/26 13:3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8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06400" y="430920"/>
            <a:ext cx="8285040" cy="5626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Why Are We Here Today</a:t>
            </a: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00000" y="1371600"/>
            <a:ext cx="8126640" cy="5092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293760" indent="-293760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es of incidents led us to stand down and take a serious look at our test ope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w this as an opportunity to share our experience and lessons learned with yo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if CRM could be applied to our situ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70861-9116-4B4E-A5E1-78FD929C0D4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D98BE22D-75B8-40A3-B9C1-699AE46D4B12}" type="datetime8">
              <a:rPr lang="en-US"/>
              <a:t>07/31/26 13:34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06400" y="485640"/>
            <a:ext cx="8285040" cy="507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The Incidents</a:t>
            </a:r>
            <a:endParaRPr b="1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139840" y="1919160"/>
            <a:ext cx="5902560" cy="4426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8420040" y="60595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F7353-782C-4738-8A9B-5FFB0AD8B021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1681FB17-9D26-4BC7-A1F3-AAA3463B9D68}" type="datetime8">
              <a:rPr lang="en-US"/>
              <a:t>07/31/26 13:34</a:t>
            </a:fld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4560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06400" y="485640"/>
            <a:ext cx="8285040" cy="507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Understanding the Root Causes</a:t>
            </a:r>
            <a:endParaRPr b="1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00000" y="1371600"/>
            <a:ext cx="8126640" cy="5092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293760" indent="-293760">
              <a:lnSpc>
                <a:spcPct val="90000"/>
              </a:lnSpc>
              <a:spcAft>
                <a:spcPts val="751"/>
              </a:spcAft>
              <a:buClr>
                <a:srgbClr val="006699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porate mergers and buyouts posed challenges to the test te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90000"/>
              </a:lnSpc>
              <a:spcAft>
                <a:spcPts val="751"/>
              </a:spcAft>
              <a:buClr>
                <a:srgbClr val="006699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&amp;E organization very centralized but T&amp;E activities are very independent, wide spread, and decentralized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90000"/>
              </a:lnSpc>
              <a:spcAft>
                <a:spcPts val="751"/>
              </a:spcAft>
              <a:buClr>
                <a:srgbClr val="006699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itioning from primarily manned to unmanned oper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90000"/>
              </a:lnSpc>
              <a:spcAft>
                <a:spcPts val="751"/>
              </a:spcAft>
              <a:buClr>
                <a:srgbClr val="006699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ulted i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39528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awareness of test procedu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39528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onsistent and undocumented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39528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rriers to T&amp;E invol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39528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familiar Flight Test Team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39528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adequate training and cer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39528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onsistent or incongruous Test IPT reporting chains – some not in T&amp;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376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F8B49-2155-4AB9-AB9D-8C72C526059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4E9F27A-0699-40E5-B3BE-6275ED786279}" type="datetime8">
              <a:rPr lang="en-US"/>
              <a:t>07/31/26 13:34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1494720" y="2131920"/>
            <a:ext cx="7217640" cy="4863960"/>
            <a:chOff x="1494720" y="2131920"/>
            <a:chExt cx="7217640" cy="4863960"/>
          </a:xfrm>
        </p:grpSpPr>
        <p:sp>
          <p:nvSpPr>
            <p:cNvPr id="67" name=""/>
            <p:cNvSpPr/>
            <p:nvPr/>
          </p:nvSpPr>
          <p:spPr>
            <a:xfrm>
              <a:off x="7178760" y="2268360"/>
              <a:ext cx="549360" cy="2759400"/>
            </a:xfrm>
            <a:prstGeom prst="can">
              <a:avLst>
                <a:gd name="adj" fmla="val 811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483080" y="2206440"/>
              <a:ext cx="549360" cy="2759400"/>
            </a:xfrm>
            <a:prstGeom prst="can">
              <a:avLst>
                <a:gd name="adj" fmla="val 811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630440" y="2131920"/>
              <a:ext cx="549360" cy="2759040"/>
            </a:xfrm>
            <a:prstGeom prst="can">
              <a:avLst>
                <a:gd name="adj" fmla="val 811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751040" y="2379600"/>
              <a:ext cx="24444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NORTHRO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602240" y="2424240"/>
              <a:ext cx="25704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RUMM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302240" y="2728800"/>
              <a:ext cx="40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94720" y="4981680"/>
              <a:ext cx="94104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-5E/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YF-2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SS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-4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-15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JS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7480" y="5014800"/>
              <a:ext cx="11714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-5E/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-2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-2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A-6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JSTA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/A-18E/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597720" y="5091120"/>
              <a:ext cx="21146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QM-34/7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Haw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ire Sc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AV Special Proj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U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 rot="5400000">
            <a:off x="4417200" y="-1153440"/>
            <a:ext cx="519120" cy="6143760"/>
          </a:xfrm>
          <a:custGeom>
            <a:avLst/>
            <a:gdLst>
              <a:gd name="textAreaLeft" fmla="*/ 331560 w 519120"/>
              <a:gd name="textAreaRight" fmla="*/ 519480 w 519120"/>
              <a:gd name="textAreaTop" fmla="*/ 160200 h 6143760"/>
              <a:gd name="textAreaBottom" fmla="*/ 5983560 h 6143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49"/>
                </a:lnTo>
                <a:cubicBezTo>
                  <a:pt x="10800" y="9849"/>
                  <a:pt x="5400" y="10749"/>
                  <a:pt x="0" y="10749"/>
                </a:cubicBezTo>
                <a:cubicBezTo>
                  <a:pt x="5400" y="10749"/>
                  <a:pt x="10800" y="11649"/>
                  <a:pt x="10800" y="1254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60840" y="1060560"/>
            <a:ext cx="579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A Growing Organization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Managing Different Cultures &amp; Different 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06400" y="485640"/>
            <a:ext cx="82850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Overcoming Cultural Differen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F30C8-7162-44D7-91CA-7BDE1E489819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DBBECC74-176D-4F00-AC75-0AD9422FB8D1}" type="datetime8">
              <a:rPr lang="en-US"/>
              <a:t>07/31/26 13:34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422600" y="5208480"/>
            <a:ext cx="1209960" cy="11541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524640" y="1695600"/>
            <a:ext cx="2330280" cy="9046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096920" y="3403440"/>
            <a:ext cx="1949400" cy="10922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504200" y="4100400"/>
            <a:ext cx="1731960" cy="11908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2408400" y="1754280"/>
            <a:ext cx="5467320" cy="47037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1960560" y="1300320"/>
            <a:ext cx="1374840" cy="14414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06400" y="485640"/>
            <a:ext cx="8285040" cy="507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T&amp;E Tentacles Spread Far and Wide</a:t>
            </a:r>
            <a:endParaRPr b="1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 rot="20033400">
            <a:off x="5510520" y="1809360"/>
            <a:ext cx="182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St. Augus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19365600">
            <a:off x="5773680" y="5728680"/>
            <a:ext cx="12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Palmd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2403000">
            <a:off x="5495760" y="426384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Edw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965000">
            <a:off x="4335120" y="6424560"/>
            <a:ext cx="134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Pax R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20192400">
            <a:off x="881280" y="2145960"/>
            <a:ext cx="157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Sierra V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613800">
            <a:off x="2680560" y="375768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Ram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21239400">
            <a:off x="1328400" y="5176440"/>
            <a:ext cx="170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White S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9638600">
            <a:off x="3899160" y="130608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Yum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2350200">
            <a:off x="7237440" y="321552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Moj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2000160" y="5776920"/>
            <a:ext cx="1514520" cy="290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8"/>
          <a:stretch/>
        </p:blipFill>
        <p:spPr>
          <a:xfrm rot="20511000">
            <a:off x="6080040" y="5849640"/>
            <a:ext cx="3251160" cy="48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48ED4-A227-430B-8906-EC8B6E68DB37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040E65D-0B3B-4888-88B6-9EF9DD09623B}" type="datetime8">
              <a:rPr lang="en-US"/>
              <a:t>07/31/26 13:34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06400" y="430920"/>
            <a:ext cx="8285040" cy="5626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Flight Test Summit Actions</a:t>
            </a: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560" y="1176480"/>
            <a:ext cx="8774280" cy="5433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457200" indent="-457200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Arial"/>
              <a:buAutoNum type="arabicPeriod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rriers to T&amp;E Involvement on all Programs need to be eliminated from the Top (VP on down) if we are expected to be responsi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Arial"/>
              <a:buAutoNum type="arabicPeriod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ploy a “Deployed Operations” proces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Arial"/>
              <a:buAutoNum type="arabicPeriod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 Flight Test independence– both for advocacy and suppor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Arial"/>
              <a:buAutoNum type="arabicPeriod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tain ongoing independent review on all program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Arial"/>
              <a:buAutoNum type="arabicPeriod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a Chief Air Vehicle Operator for the Western Region T&amp;E Organ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Arial"/>
              <a:buAutoNum type="arabicPeriod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sure all System Test IPT Leaders know and understand the new System Safety Organ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9121B-8A72-4D9F-99E6-372EB6F6EC8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55DB1514-3B0C-4E34-8230-09905A8BA53D}" type="datetime8">
              <a:rPr lang="en-US"/>
              <a:t>07/31/26 13:34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06400" y="430920"/>
            <a:ext cx="8285040" cy="5626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Flight Test Summit Actions</a:t>
            </a: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26560" y="1176480"/>
            <a:ext cx="8774280" cy="5765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609480" indent="-609480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Arial"/>
              <a:buAutoNum type="arabicPeriod" startAt="7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standardized procedure for Emergency / Mishap Respon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Arial"/>
              <a:buAutoNum type="arabicPeriod" startAt="7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 to have a manager at all Flight Test Ev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Aft>
                <a:spcPts val="901"/>
              </a:spcAft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935000" y="2390760"/>
            <a:ext cx="5834160" cy="437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15D42-721E-43C1-87C3-C0414FADC76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F527C528-8E50-4D30-987D-A5DED9E35901}" type="datetime8">
              <a:rPr lang="en-US"/>
              <a:t>07/31/26 13:3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5T14:32:17Z</dcterms:created>
  <dc:creator>johnstr2</dc:creator>
  <dc:description/>
  <dc:language>en-US</dc:language>
  <cp:lastModifiedBy>thomas.roberts</cp:lastModifiedBy>
  <dcterms:modified xsi:type="dcterms:W3CDTF">2007-05-15T14:32:18Z</dcterms:modified>
  <cp:revision>36</cp:revision>
  <dc:subject/>
  <dc:title>Slide 0</dc:title>
</cp:coreProperties>
</file>